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410-0398-4AA7-AB5C-46E50944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7A2-75D3-4355-99D3-15046419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E67-A341-4E58-843F-013F5ECB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E29A-5675-40A5-8755-3A5F1D3C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0330-7E38-4069-A482-B75C53C5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E418-A44A-4B92-BD0E-8A89846F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27CD-CF9F-48CC-9071-55CEA2F2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9A87-6BA2-4585-A096-BE2FB4AF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7242-F6CF-4C40-AD99-FD439CE3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DDFF-E3BF-4F5E-9132-DB393069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767F-6750-4231-83D1-C92BD50B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ED2-926A-46A6-8BE2-25D00D00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93B4-0D8A-4D74-8B96-8FFC1ED2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A971-218B-4527-8F67-D0B46F86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AB61-B523-46FD-8D94-2AFCDF83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9445-9BD4-4B46-8BD1-BB49F33D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06F3-69F0-45C5-AFDC-4B172B41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6D9-E2A4-4FE0-9499-AAAD02B9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DC6-01E4-4070-9117-EEA1CA75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A72-E8A4-43A4-96F1-300F9D55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C78-928E-410A-9771-51902A2C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3EDC-428D-4EAA-97E4-56D29DBE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CDC-5738-4B1F-BE0B-D6D07C45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3DB-CE17-4DD9-8661-486AC849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07E9-FA20-484A-9AE5-9F981F40155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7929-D64F-4C10-9FB4-EB559E1FF9B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doriani@springboro.org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Bienvenido al Tercer Grado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lase de Miss Oriani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rto 22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emátic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 empezar – entrenamos con addicion y subtracc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bro Estudiantil de Referenc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sar al inicio, pero mas dificil en el tercer y quarto cuartomes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CHOS DE MULTIPLICACION – si su estudiante ya sabe hacer adicion y subtraccion, hay que empezar multiplicacio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mediam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83348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ub de Lectura, Club de Matematicas, Tutorias Privad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y a ofrecer varios clubes y tutorias para los estudia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upo de matematicas -  4:00-5:00 los lu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ub de Lectura – 4:00-5:00 los jue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ssiones de tutorias privadas antes y despues de cla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 puede inscribir su hijo cada capitu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$20 para cada niño para cada gru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 haga dos grupos, seria $15 cada gru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utorias privadas – si su hijo tiene problemas graves - $30 para cada ho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9480" cy="12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010280" y="5181480"/>
            <a:ext cx="127332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ub de Cienci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su hijo LE ENCANTAN las ciencias, me gustaria empezar un club para ello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pues de clases – una vez a la sema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15 para cada estudiante, cada sema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gamos proyectos por internet con otros estudiantes de todos partes del mund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o Contactar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 favor, siempre me pueden contact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EMPRE con e-mail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doriani@springboro.or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reviso cada dia muchas veces y cuando me voy a dormir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quiere hacer conferencia conmigo, me puede hacer una ci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as extras que ocupamo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peta de una pulg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sores para las carpe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rjetas blanc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 rollo de mask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aderno para escribir con tres seccio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nato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mpiadora de venta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pices de mar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rjetas blancas brillan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iodicos y revistas con graf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n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ers con tinta perman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petas de todos tip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uestra Met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tamos aqui para trabajar juntos para el exito de su niño en el tercer grado, asi que vamos a tener un año buenisimo juntos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76720" y="3657600"/>
            <a:ext cx="3124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gundo al Tercer Grado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lto gran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ctaciones alt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icipacion del estudia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nos tare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 independencia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62940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Regla de T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olvidan las tareas – la primera y segunda vez, el estudiante tiene que tener conferencia con la profeso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tercer vez, el estudiante tiene que tener conferencia con la profesora y el direc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uarta vez, el estudiante tiene que quedarse despues de las clases con el director para cumplir sus tare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ponsabilides durante el Trabajo de la Mañana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ntrate en la ? – Hay que explicar con palabr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ografia diario mas los qui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ntastic Five (preguntas de matemáticas) mas los qui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critura de ciencias y estudios socia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bajo gramatica (hay que trabajar a veces en la casa con los nombres, descripciones, y ma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ller de la Lectura/Escritu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ás de la lectura y escritu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ciónes personales del estudia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y que ver el papel de los estudian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705720" y="51055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6212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etre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as Individuales Para el Deletre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dos tienen el mismo pre-examen cada sema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y que guardar las palabras que no se deletrean bi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igir sus propios palabras desde examenes pasados o se pueden elegir palabras que tienen algo que ver con la tema seme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 favor REVISE sus palabras para ASEGURAR que lo deletrearon bi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1219320" cy="12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bilidades Semenales Que Hacemos en la Escuela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ctura/Idio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as gramati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as del deletre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de ciencias y estudios socia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y que regalarlo cada jue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samos jun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iz de temas gramaticas y del deletreo cada sema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629400" y="5181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ctu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vez, y un gran salto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ctura independente (que va a la casa solamente si el horario de la semana esta llen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diendo a preguntas – por favor, vea a la pagina de pregunt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irculo quien, que, cuando, donde, y para que, Responde a pregunta A, y tambien partes 2,3,4 de las pregunta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MIR!! (que vea la pagina sobre resumen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CABULA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343400" y="4952880"/>
            <a:ext cx="274320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CRITU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ses Primeras (ideas grand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-4 detal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se para termin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pezamos a escribir en parraf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ra vez, hay que hacer muchos resumenes en el tercer gr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324480" y="457200"/>
            <a:ext cx="14479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6:25:11Z</dcterms:created>
  <dc:creator>doriani</dc:creator>
  <dc:description/>
  <dc:language>en-US</dc:language>
  <cp:lastModifiedBy>doriani</cp:lastModifiedBy>
  <dcterms:modified xsi:type="dcterms:W3CDTF">2009-05-11T19:34:59Z</dcterms:modified>
  <cp:revision>9</cp:revision>
  <dc:subject/>
  <dc:title>Welcome to Third Grade!</dc:title>
</cp:coreProperties>
</file>